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18B6-A53E-4F38-9D8A-14A899B89E4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4A3-35EC-4664-9434-F0FA9954057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47E-220B-4490-8D71-41D7FFF863C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CB9-3970-45B5-BE29-483CFC86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82E-5031-488B-B6E1-86DF6D0E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70D-26DA-4696-A6B7-1A566533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AAA-24AC-4596-B686-3628647A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EB1C-BC3D-4616-8557-23B7B601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8E48-FF9C-4368-8689-7E0EF2C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A55F-6E52-49AC-A81B-6780E2F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9A5F-EA80-47C7-9259-59C471D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7B2-E0DC-4A1C-9424-AE5793BB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FCC7-A59D-4EE5-BE0F-CFE267F0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CCF7-BDA5-4F12-9321-77209F4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7E8-7994-411C-9BD6-54B9E29D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CF2-A8F5-48F3-80CA-A562A61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37B-B27A-4824-AFBC-97D208C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0B8B-EF86-492A-9C22-2809853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B3C-D0E3-4D52-B38C-E4AA69EA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9D04-3D3F-4D52-B8E8-7A6C1A24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A0EE2-167D-40C7-9DDF-018DEE5C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F905A-3E12-408C-B18B-1EE75D2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52C8B-C3F8-4596-AD67-7E005B85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3F724-3C1C-48CA-A2B1-DC4A058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1ADE3-29A0-45B4-9F77-4B0D9AD7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3C9-CB6B-4986-81EE-013EA7B3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78354-379E-4B0B-A1FA-7A9F263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4FF7E-5AF6-433E-BA72-C7310ADD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EB611-3943-477F-AD8B-461EB1A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E1DE2-CB45-4FA2-B135-C4D3FA6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BFBC7-90FB-4BA7-82DA-8F40E60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8FB91-F68C-4BA1-9C09-581E15A0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72A02-29A6-4E5B-8C0F-7348078C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04D0-D6BD-4EAD-85E3-FB6D4D1C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D5F8-4420-49A5-A285-2795963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5E90-84D7-4235-9BED-6D55772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176-5F72-4B83-9473-07327B5B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F740-0D4F-457C-8D63-19D420C9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BFA4-D57A-4BDB-938F-6F0EB57C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DC1A-4F4E-4B86-930D-49744B9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C06F-E4E4-407C-A1BD-A6327EA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7D70-6B53-4F44-96E9-4C1C4852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E351-D7B5-43F8-9566-B4038B5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ADB6-FDD6-421C-BAF8-CDA36F0B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E389-FCD5-40A0-AA95-BFBFBB27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665E-24B6-4807-8E61-B4AEBD53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631B2-0EFD-49CF-809F-91935152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A87-384B-4173-8669-0EF67E7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CA63E-9211-4410-91A4-8C33865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A33AC-6202-46E6-9A82-09E6C3EB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B3167-A03C-41F9-A86C-5B5C6A6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BFFC8-3EB9-4A88-9312-CBCC072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8A52E-58C7-4383-ABD3-5CFAF4A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9DEA1-75FB-4933-AE6E-ADCAC2D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A7FF7-94C1-4107-9557-380034C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A1BA0-533D-4D21-8F41-862DA0A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5AE9C-E500-4CD5-BF79-C050D4AC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44ADE-0507-4C81-BC33-26294474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702-EA49-4F4B-B764-53887C6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41054-4EE5-453A-8D67-08D6F223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F4CE0-2CF1-408A-8E65-BAF70A22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FA97F-305B-4BCA-A903-836D4DE3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AAC1A-BEE0-4F98-8BCC-253559C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C1802-944F-4F0A-9563-0BB12AC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68D2A-1F54-4BB1-A2FF-608ADCC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1A199-70E7-4DFB-B477-B9F35CE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CE537-4A63-4B31-AA4C-ED80F80A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66783-6C75-49E2-9FD2-A6DE3CE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DB99C-8A67-43E8-B3C0-44E5574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95C-FD90-4F34-A382-BDCEBAE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11813-1312-47F0-88A2-402FC3E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61C71-FB45-4185-B3A9-FA029E3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2DAFE-6116-43CC-B638-B15FC37C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AB7B6-413D-4509-87AC-D832D3F3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90413-FB58-4F24-B7F8-EC72A44B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A5CAE-3CC2-4FDA-8D52-9EB065A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5611D-537F-4A9B-B89E-CC68618A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F3327-637C-41E5-8F9D-55DA2EE0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D46BD-21E8-4A06-B644-589F912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8D213-45B3-4567-AAED-EFF32297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640-8218-495F-BB72-B60BF5A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1CCC2-885D-4F8A-BBD9-F903DFD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A4D9D-3DBC-42CE-B8D3-8CAE77F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36F93-EFE3-451F-88C5-22C87C05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95856-44CD-452B-86FA-38F9820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44B0D-FDF0-44F9-95DE-61C8229E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976-0173-42AF-8447-58C1A8D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B84-7520-4E01-8B51-10AAD27097D9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C9AC-2489-4B0D-8E14-224A44F1548F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1A3-1E51-4E79-B10D-C8D51C656DFF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f5f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f5f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510-A638-4523-828E-3B72D4C4AF46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799-27D1-4141-B35A-48E293CB4C51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C75-84F9-4FCE-A41E-CFF05ED51B43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4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1AF-E6DE-4CCD-991A-7136F56EE69F}" type="slidenum">
              <a:rPr b="1" lang="en-N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4646"/>
                </a:solidFill>
                <a:latin typeface="Huxtable"/>
                <a:ea typeface="Arial"/>
              </a:rPr>
              <a:t>MY SKETCHUP PROJECT</a:t>
            </a:r>
            <a:br>
              <a:rPr sz="5400"/>
            </a:br>
            <a:r>
              <a:rPr b="1" lang="en-US" sz="2800" spc="-1" strike="noStrike">
                <a:solidFill>
                  <a:srgbClr val="464646"/>
                </a:solidFill>
                <a:latin typeface="Huxtable"/>
                <a:ea typeface="Arial"/>
              </a:rPr>
              <a:t>KATIE PATON</a:t>
            </a:r>
            <a:endParaRPr b="0" lang="en-US" sz="28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2286000" y="2357280"/>
            <a:ext cx="6000840" cy="375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EIGHT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3" name="Content Placeholder 3" descr="Step 8.jpg"/>
          <p:cNvPicPr/>
          <p:nvPr/>
        </p:nvPicPr>
        <p:blipFill>
          <a:blip r:embed="rId1"/>
          <a:srcRect l="0" t="12482" r="24809" b="23234"/>
          <a:stretch/>
        </p:blipFill>
        <p:spPr>
          <a:xfrm>
            <a:off x="214200" y="1571760"/>
            <a:ext cx="5615280" cy="3000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6143760" y="157176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Next I designed my dormer on my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4272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64646"/>
                </a:solidFill>
                <a:latin typeface="Huxtable"/>
              </a:rPr>
              <a:t>THE END</a:t>
            </a:r>
            <a:endParaRPr b="0" lang="en-US" sz="96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ON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1" name="Content Placeholder 3" descr="first step.jpg"/>
          <p:cNvPicPr/>
          <p:nvPr/>
        </p:nvPicPr>
        <p:blipFill>
          <a:blip r:embed="rId1"/>
          <a:stretch/>
        </p:blipFill>
        <p:spPr>
          <a:xfrm>
            <a:off x="214200" y="1357200"/>
            <a:ext cx="4592880" cy="2870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second step.jpg"/>
          <p:cNvPicPr/>
          <p:nvPr/>
        </p:nvPicPr>
        <p:blipFill>
          <a:blip r:embed="rId2"/>
          <a:stretch/>
        </p:blipFill>
        <p:spPr>
          <a:xfrm>
            <a:off x="571680" y="4071960"/>
            <a:ext cx="4143240" cy="25891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5429160" y="1285920"/>
            <a:ext cx="285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First thing I did was draw a rectangle and then push/pull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TWO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5" name="Content Placeholder 4" descr="step 3.jpg"/>
          <p:cNvPicPr/>
          <p:nvPr/>
        </p:nvPicPr>
        <p:blipFill>
          <a:blip r:embed="rId1"/>
          <a:srcRect l="17793" t="1767" r="29592" b="20173"/>
          <a:stretch/>
        </p:blipFill>
        <p:spPr>
          <a:xfrm>
            <a:off x="214200" y="1000080"/>
            <a:ext cx="3000600" cy="278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step 4.jpg"/>
          <p:cNvPicPr/>
          <p:nvPr/>
        </p:nvPicPr>
        <p:blipFill>
          <a:blip r:embed="rId2"/>
          <a:srcRect l="5468" t="18751" r="40627" b="17499"/>
          <a:stretch/>
        </p:blipFill>
        <p:spPr>
          <a:xfrm>
            <a:off x="142920" y="4000680"/>
            <a:ext cx="3479760" cy="257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Step 5.jpg"/>
          <p:cNvPicPr/>
          <p:nvPr/>
        </p:nvPicPr>
        <p:blipFill>
          <a:blip r:embed="rId3"/>
          <a:srcRect l="0" t="13753" r="42971" b="18751"/>
          <a:stretch/>
        </p:blipFill>
        <p:spPr>
          <a:xfrm>
            <a:off x="3286080" y="214200"/>
            <a:ext cx="3862440" cy="2857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step 6.jpg"/>
          <p:cNvPicPr/>
          <p:nvPr/>
        </p:nvPicPr>
        <p:blipFill>
          <a:blip r:embed="rId4"/>
          <a:srcRect l="0" t="15000" r="44533" b="20003"/>
          <a:stretch/>
        </p:blipFill>
        <p:spPr>
          <a:xfrm>
            <a:off x="3857760" y="3714840"/>
            <a:ext cx="3902040" cy="28573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7286760" y="642960"/>
            <a:ext cx="128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xtable"/>
              </a:rPr>
              <a:t>How I made my 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THRE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1" name="Content Placeholder 3" descr="step 7.jpg"/>
          <p:cNvPicPr/>
          <p:nvPr/>
        </p:nvPicPr>
        <p:blipFill>
          <a:blip r:embed="rId1"/>
          <a:srcRect l="1530" t="10951" r="22895" b="9453"/>
          <a:stretch/>
        </p:blipFill>
        <p:spPr>
          <a:xfrm>
            <a:off x="285840" y="1500120"/>
            <a:ext cx="3929040" cy="258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tep 8.jpg"/>
          <p:cNvPicPr/>
          <p:nvPr/>
        </p:nvPicPr>
        <p:blipFill>
          <a:blip r:embed="rId2"/>
          <a:srcRect l="3124" t="2499" r="22656" b="12501"/>
          <a:stretch/>
        </p:blipFill>
        <p:spPr>
          <a:xfrm>
            <a:off x="285840" y="4044960"/>
            <a:ext cx="3929040" cy="28130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"/>
          <p:cNvSpPr/>
          <p:nvPr/>
        </p:nvSpPr>
        <p:spPr>
          <a:xfrm>
            <a:off x="4500720" y="185724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made two chimneys next to each other on the roof using the rectangle tool and the push p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FOUR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5" name="Content Placeholder 3" descr="Step 4.jpg"/>
          <p:cNvPicPr/>
          <p:nvPr/>
        </p:nvPicPr>
        <p:blipFill>
          <a:blip r:embed="rId1"/>
          <a:srcRect l="2486" t="10951" r="23852" b="21699"/>
          <a:stretch/>
        </p:blipFill>
        <p:spPr>
          <a:xfrm>
            <a:off x="214200" y="1214280"/>
            <a:ext cx="4875480" cy="2786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ep 4 pt 2.jpg"/>
          <p:cNvPicPr/>
          <p:nvPr/>
        </p:nvPicPr>
        <p:blipFill>
          <a:blip r:embed="rId2"/>
          <a:srcRect l="0" t="2499" r="35938" b="30236"/>
          <a:stretch/>
        </p:blipFill>
        <p:spPr>
          <a:xfrm>
            <a:off x="214200" y="385776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tep 4 pt 3.jpg"/>
          <p:cNvPicPr/>
          <p:nvPr/>
        </p:nvPicPr>
        <p:blipFill>
          <a:blip r:embed="rId3"/>
          <a:srcRect l="0" t="7502" r="36720" b="25001"/>
          <a:stretch/>
        </p:blipFill>
        <p:spPr>
          <a:xfrm>
            <a:off x="4572000" y="32860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Huxtable"/>
              </a:rPr>
              <a:t>STEP FOUR PART TWO-IMPORTING TEXTURE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9" name="Content Placeholder 3" descr="Step 4 pt 4.jpg"/>
          <p:cNvPicPr/>
          <p:nvPr/>
        </p:nvPicPr>
        <p:blipFill>
          <a:blip r:embed="rId1"/>
          <a:srcRect l="9183" t="3298" r="21939" b="23234"/>
          <a:stretch/>
        </p:blipFill>
        <p:spPr>
          <a:xfrm>
            <a:off x="428760" y="150012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Step 4 pt 5.jpg"/>
          <p:cNvPicPr/>
          <p:nvPr/>
        </p:nvPicPr>
        <p:blipFill>
          <a:blip r:embed="rId2"/>
          <a:srcRect l="21094" t="16252" r="22656" b="20003"/>
          <a:stretch/>
        </p:blipFill>
        <p:spPr>
          <a:xfrm>
            <a:off x="571680" y="3973680"/>
            <a:ext cx="4071600" cy="28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FIVE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82" name="Content Placeholder 3" descr="Step 5.jpg"/>
          <p:cNvPicPr/>
          <p:nvPr/>
        </p:nvPicPr>
        <p:blipFill>
          <a:blip r:embed="rId1"/>
          <a:srcRect l="14350" t="26022" r="35332" b="14050"/>
          <a:stretch/>
        </p:blipFill>
        <p:spPr>
          <a:xfrm>
            <a:off x="357120" y="1214280"/>
            <a:ext cx="3757680" cy="2797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Step 5 pt 2.jpg"/>
          <p:cNvPicPr/>
          <p:nvPr/>
        </p:nvPicPr>
        <p:blipFill>
          <a:blip r:embed="rId2"/>
          <a:srcRect l="13281" t="13753" r="7813" b="26253"/>
          <a:stretch/>
        </p:blipFill>
        <p:spPr>
          <a:xfrm>
            <a:off x="214200" y="4000680"/>
            <a:ext cx="5411880" cy="2571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Step 5 pt 3.jpg"/>
          <p:cNvPicPr/>
          <p:nvPr/>
        </p:nvPicPr>
        <p:blipFill>
          <a:blip r:embed="rId3"/>
          <a:srcRect l="27345" t="21250" r="21877" b="21250"/>
          <a:stretch/>
        </p:blipFill>
        <p:spPr>
          <a:xfrm>
            <a:off x="4286160" y="785880"/>
            <a:ext cx="4071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5857920" y="392904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xtable"/>
              </a:rPr>
              <a:t>Next I made my veranda over my front door. Next I drew a rectangle and selected it then imported a picture of a front door like I did for my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SIX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87" name="Content Placeholder 3" descr="Step 6.jpg"/>
          <p:cNvPicPr/>
          <p:nvPr/>
        </p:nvPicPr>
        <p:blipFill>
          <a:blip r:embed="rId1"/>
          <a:srcRect l="0" t="0" r="9502" b="17112"/>
          <a:stretch/>
        </p:blipFill>
        <p:spPr>
          <a:xfrm>
            <a:off x="285840" y="1285920"/>
            <a:ext cx="7000920" cy="40082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4"/>
          <p:cNvSpPr/>
          <p:nvPr/>
        </p:nvSpPr>
        <p:spPr>
          <a:xfrm>
            <a:off x="428760" y="557208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added texture to my cottage and imported a flower pot from the 3D war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Huxtable"/>
              </a:rPr>
              <a:t>STEP SEVEN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90" name="Content Placeholder 3" descr="Step 7.jpg"/>
          <p:cNvPicPr/>
          <p:nvPr/>
        </p:nvPicPr>
        <p:blipFill>
          <a:blip r:embed="rId1"/>
          <a:srcRect l="2870" t="6123" r="9118" b="12756"/>
          <a:stretch/>
        </p:blipFill>
        <p:spPr>
          <a:xfrm>
            <a:off x="357120" y="1500120"/>
            <a:ext cx="6572160" cy="378612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571680" y="550080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xtable"/>
              </a:rPr>
              <a:t>Next I added two other windows on at the back of the house like my first one on the fr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3:13:36Z</dcterms:created>
  <dc:creator>Diocesan School for Girls</dc:creator>
  <dc:description/>
  <dc:language>en-US</dc:language>
  <cp:lastModifiedBy>Diocesan School for Girls</cp:lastModifiedBy>
  <dcterms:modified xsi:type="dcterms:W3CDTF">2009-09-03T05:08:55Z</dcterms:modified>
  <cp:revision>23</cp:revision>
  <dc:subject/>
  <dc:title>My sketchup project</dc:title>
</cp:coreProperties>
</file>